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62D-0399-4683-AEA0-0CB891EB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8AC-00C0-4C60-8139-4031ED1B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3D8-883F-4802-A223-9CD83C42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B81-9679-41A0-8880-E5BEF8C4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90D-EF7D-4FC3-898B-695A9DB3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327-6DB5-42A7-AA96-2F5A1A15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714-928D-44C9-BD2A-691E3269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1BF-9454-43A4-9BA2-877B93AB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FE8-1B73-4141-8487-105CC63D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9FB-0F59-4950-898A-2EE24A9D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362-F1C9-4B05-B815-2CE4FA15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A14-22FF-43FB-8D52-C4294A73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A685AF-3E60-4C39-9D23-4C7ED3383123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e.wikipedia.org/wiki/Uranus_%28Planet%29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ffffff"/>
                </a:solidFill>
                <a:latin typeface="Gungsuh"/>
              </a:rPr>
              <a:t>Uran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504036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Gungsuh"/>
              </a:rPr>
              <a:t>Qu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17000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http://www.meta-evolutions.de/pages/ssdc-uranu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http://www.neunplaneten.de/nineplanets/uranu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Gungsuh"/>
                <a:hlinkClick r:id="rId1"/>
              </a:rPr>
              <a:t>http://de.wikipedia.org/wiki/Uranus_%28Planet%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ffffff"/>
                </a:solidFill>
                <a:uFillTx/>
                <a:latin typeface="Gungsuh"/>
              </a:rPr>
              <a:t>B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http://upload.wikimedia.org/wikipedia/commons/3/3d/Uranus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http://upload.wikimedia.org/wikipedia/commons/4/41/Uranus_Earth_Comparison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http://www.dokuplanet.de/system/uranus_0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http://upload.wikimedia.org/wikipedia/commons/4/42/Titania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http://upload.wikimedia.org/wikipedia/commons/5/5a/Uranus_moons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http://upload.wikimedia.org/wikipedia/commons/e/e1/Uranian_rings_scheme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Gungsuh"/>
              </a:rPr>
              <a:t>Gliederu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Allgemeine 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Aufbau und Zusammensetz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Monde und Ringsyst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Atmosphä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Besonder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Gungsuh"/>
              </a:rPr>
              <a:t>Daten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360" y="144000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Größe: Durchmesser 51.000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Masse: 8,683*10</a:t>
            </a:r>
            <a:r>
              <a:rPr b="0" lang="de-DE" sz="3200" spc="-1" strike="noStrike" baseline="30000">
                <a:solidFill>
                  <a:srgbClr val="ffffff"/>
                </a:solidFill>
                <a:latin typeface="Gungsuh"/>
              </a:rPr>
              <a:t>25 </a:t>
            </a: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Umlaufdauer: ~84 Jah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Tageslänge: ~17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Temperatur: -221°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Dichte: 1,27g/cm</a:t>
            </a:r>
            <a:r>
              <a:rPr b="0" lang="de-DE" sz="3200" spc="-1" strike="noStrike" baseline="30000">
                <a:solidFill>
                  <a:srgbClr val="ffffff"/>
                </a:solidFill>
                <a:latin typeface="Gungsuh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Gungsuh"/>
              </a:rPr>
              <a:t>Entf. zur Sonne: 19,2 A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2920" y="0"/>
            <a:ext cx="252108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Gungsuh"/>
              </a:rPr>
              <a:t>Aufbau &amp; Zusammensetz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816360" cy="4238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56000" y="1125360"/>
            <a:ext cx="43308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Gungsuh"/>
              </a:rPr>
              <a:t>1.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ungsuh"/>
              <a:buChar char="•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Gesteins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(7.000°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Gungsuh"/>
              </a:rPr>
              <a:t>2.Ma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ungsuh"/>
              <a:buChar char="•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Schicht aus Wasser, Methan und Ammo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de-DE" sz="2400" spc="-1" strike="noStrike" u="sng">
                <a:solidFill>
                  <a:srgbClr val="ffffff"/>
                </a:solidFill>
                <a:uFillTx/>
                <a:latin typeface="Gungsuh"/>
              </a:rPr>
              <a:t>3.Atmosphä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ungsuh"/>
              <a:buChar char="•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Wasserstoff, Helium, Ammoniak und Methan (mehr als bei Saturn und Jupi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ungsuh"/>
              <a:buChar char="•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Größtenteils struktur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Gungsuh"/>
              </a:rPr>
              <a:t>Monde und Ring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Gungsuh"/>
              </a:rPr>
              <a:t>Mo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0320" indent="-310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27 M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Insgesamt 5 Hauptm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Davon 4 „rund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gr.: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Gungsuh"/>
              </a:rPr>
              <a:t>Titania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D=1578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M=3,52*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Gungsuh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entdeckt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0320" indent="-310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kl.: </a:t>
            </a:r>
            <a:r>
              <a:rPr b="0" lang="de-DE" sz="2800" spc="-1" strike="noStrike" u="sng">
                <a:solidFill>
                  <a:srgbClr val="ffffff"/>
                </a:solidFill>
                <a:uFillTx/>
                <a:latin typeface="Gungsuh"/>
              </a:rPr>
              <a:t>Cup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D=12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M=1,2*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Gungsuh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 baseline="30000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 baseline="30000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 baseline="30000">
                <a:solidFill>
                  <a:srgbClr val="ffffff"/>
                </a:solidFill>
                <a:latin typeface="Gungsuh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entdeckt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836800" cy="24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Gungsuh"/>
              </a:rPr>
              <a:t>Ring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3200" spc="-1" strike="noStrike">
              <a:solidFill>
                <a:srgbClr val="ffffff"/>
              </a:solidFill>
              <a:latin typeface="Gungsuh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Äquato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Nicht exakt zentr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Jünger =&gt; entstanden durch Zerstörung eines Mo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Sehr kleine Teilchen (bis zu 10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Deutlich durch Zwischenräume abgegrenz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Einige auch ellipt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Der hellste Epsilon wird durch Cordelia und Ophelia zusammengehal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24520" y="0"/>
            <a:ext cx="321948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12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Gungsuh"/>
              </a:rPr>
              <a:t>Atmosphä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1120" y="118692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Gungsuh"/>
              </a:rPr>
              <a:t>Bestandtandteile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hauptsächlich </a:t>
            </a:r>
            <a:r>
              <a:rPr b="0" i="1" lang="de-DE" sz="2400" spc="-1" strike="noStrike">
                <a:solidFill>
                  <a:srgbClr val="ffffff"/>
                </a:solidFill>
                <a:latin typeface="Gungsuh"/>
              </a:rPr>
              <a:t>Wasserstoff und Helium </a:t>
            </a: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(Helium für den blau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kleinere Anteile von </a:t>
            </a:r>
            <a:r>
              <a:rPr b="0" i="1" lang="de-DE" sz="2400" spc="-1" strike="noStrike">
                <a:solidFill>
                  <a:srgbClr val="ffffff"/>
                </a:solidFill>
                <a:latin typeface="Gungsuh"/>
              </a:rPr>
              <a:t>Methan und Ammo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Gungsuh"/>
              </a:rPr>
              <a:t>Wetter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bestimmt durch </a:t>
            </a:r>
            <a:r>
              <a:rPr b="0" i="1" lang="de-DE" sz="2400" spc="-1" strike="noStrike">
                <a:solidFill>
                  <a:srgbClr val="ffffff"/>
                </a:solidFill>
                <a:latin typeface="Gungsuh"/>
              </a:rPr>
              <a:t>Wirbelsturmgebiete</a:t>
            </a: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  </a:t>
            </a: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(</a:t>
            </a:r>
            <a:r>
              <a:rPr b="0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ffffff"/>
                </a:solidFill>
                <a:latin typeface="Gungsuh"/>
              </a:rPr>
              <a:t> dauern teilweise mehrere Monate an und sind bis zu 29.000km groß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</a:rPr>
              <a:t>Absorb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ungsuh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durch Teleskop erscheint Uranus als blaugrüne Scheibe mit schwacher grüner Periphe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   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Gungsuh"/>
              </a:rPr>
              <a:t>Methan der Atmosphäre absorbier das rote 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086600" y="5143680"/>
            <a:ext cx="205740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Gungsuh"/>
              </a:rPr>
              <a:t>Besondere Merk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4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gung der Achse gegen die Ekliptik 97,77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24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gung der Achse gegen die Ekliptik 97,77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46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gung der Achse gegen die Ekliptik 97,77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52388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440" y="1027080"/>
            <a:ext cx="84582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- Neigung der Achse gegen die Ekliptik 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97,77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Theorie: Kollision mit Protoplan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-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 sehr geringer Wasserstoff und  Helium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Anteil für Gasri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- strahlt nicht wie andere Gasriesen 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mehr Wärme ab als durch Sonne 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Gungsuh"/>
                <a:ea typeface="Lucida Sans Unicode"/>
              </a:rPr>
              <a:t>einstrah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3:16:38Z</dcterms:created>
  <dc:creator>muster</dc:creator>
  <dc:description/>
  <dc:language>en-US</dc:language>
  <cp:lastModifiedBy>Remler</cp:lastModifiedBy>
  <dcterms:modified xsi:type="dcterms:W3CDTF">2011-11-25T12:59:48Z</dcterms:modified>
  <cp:revision>5</cp:revision>
  <dc:subject/>
  <dc:title>Uranus</dc:title>
</cp:coreProperties>
</file>